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3619-24C8-4ED0-AB34-5F0A0AD3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49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B168-D3B2-422F-88E6-D3B14973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8557-E7B6-4F92-91BD-4A86179F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E64B-D3FE-4E6F-B6D6-4ABB95BF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F35-3610-4701-A156-9D30D615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E0BB-C02D-42FC-9888-C66111AF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C411-C716-43B9-BF94-451D24C6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71D4-9A21-4774-8107-057B21BF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9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85AA-0A5F-45CF-ABD4-A63FE8FA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0CE9-E809-4E38-A1AB-046CDD34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EC16-7EE7-4CFF-8A55-4D3B826D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5215-F633-43F7-AE4E-B8EB827B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FFE9-B4C5-4CCB-BA9D-26A14FEB639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4978440" cy="73980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uspend2.net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920" y="189000"/>
            <a:ext cx="8610480" cy="1871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rovement of bootup time using Power Manage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Project Update 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13192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roki Kamina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y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minaga@sm.sony.co.j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translated by ikoma@slab.tnr.sharpco.jp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9C03-9D69-4A97-8705-31402A61DA1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 Resul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star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676 [se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 (a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52 [se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: 6.38 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 (mplay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.910 [se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: 10.24 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08760" y="578016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wsusp process start at: 2.174 [sec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5CB7-36C0-42FB-A190-76EF45345D9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/suspend2 Comparis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strict comparison as Linux versions are not the sam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susp/linux2.6.11: image is small, and startup is f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nd2/linux2.6.14: LZF compression of image is effective, but tradeoff with startup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d2-2.2 is not stable yet, as it is RC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0E21-F79C-472E-B38B-1AB18232A6D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wsusp/suspend2 Comparison: 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size/processing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nd2: 925KB/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susp:     889KB/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D3F4-F35B-40F0-9E63-D8FDF7A6861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 of swsusp, Pavel, has extended swsusp with encryption, compression, UI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al is to minimize the change to kernel by most of processing done in the user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lists.osdl.org/pipermail/linux-pm/2005-September/001312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lists.osdl.org/pipermail/linux-pm/2005-November/001535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lists.osdl.org/pipermail/linux-pm/2005-November/001562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D433-73E9-450F-81F2-C388E226427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3: (ML diges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72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to integrate kernel part into around 2.6.16 (Pav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tegrated, RH/FC kernel would fork. Swsusp3 uses /dev/mem, but they restrict /dev/mem to prevent rootkit (Dave J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hot discussion continues on swsusp3 vs secur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ion/compression in userland is more intuitive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fael J. Wysock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A50B-C015-459D-BC7E-6743EE5E722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3: (ML digests (cont.)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se functions are already in suspend2. Duplicated effort (Dumitru Ciobarcianu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different to implement in kernel. Can’t believe Pavel? Nigel knows what he should do to work together. (Greg K-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’t understand why they think userland is the right place. (Nig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26FC-F83C-494A-B08F-50DFFAC9A4F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3: (ML digests (cont.)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land swsusp changes only 150 lines or so in kernel (Pav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Nigel’s code won’t be mainlined. (Greg K-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ot discussion continu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986B-890B-489D-8074-06B51DA37C1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59280" y="3213000"/>
            <a:ext cx="297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B796-0440-4B45-BF26-ADB7F46D6672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407520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ing until the application reaches to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fer of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ynamic lin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al constru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C Processing among applications for the whole system ru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3960" y="207504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69800" y="2160720"/>
            <a:ext cx="11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98560" y="3278160"/>
            <a:ext cx="647640" cy="0"/>
          </a:xfrm>
          <a:prstGeom prst="line">
            <a:avLst/>
          </a:prstGeom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46200" y="3278160"/>
            <a:ext cx="64764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3284640"/>
            <a:ext cx="122400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3278160"/>
            <a:ext cx="345744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0920" y="257796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oot lo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kern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99640" y="3494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[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47280" y="3494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[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44400" y="3494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[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36760" y="3494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[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98560" y="21258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93840" y="21258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17840" y="21258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77080" y="21258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38880" y="220500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up time of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6040" y="1413000"/>
            <a:ext cx="6286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 to shorten start up time of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E907-31AB-4723-9474-71D7352DB56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bernation on Linux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d in 2.6 vanilla ker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ocumentation/power/swsusp.t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: Pavel Mach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Suspend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http://www.suspend2.net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: Nigel Cunningh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3E68-66CB-49AC-908A-12F8E9DDB9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989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bernation on Linux(Comparison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19120" y="2109960"/>
          <a:ext cx="8229600" cy="3555720"/>
        </p:xfrm>
        <a:graphic>
          <a:graphicData uri="http://schemas.openxmlformats.org/drawingml/2006/table">
            <a:tbl>
              <a:tblPr/>
              <a:tblGrid>
                <a:gridCol w="2746440"/>
                <a:gridCol w="2739960"/>
                <a:gridCol w="2743200"/>
              </a:tblGrid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hite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386, ppc, x86_64, ia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386, ppc, x86_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ntiguous mem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ess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crypt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pend-to-swapfil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pend-to-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land 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サポー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3773520" y="1484280"/>
            <a:ext cx="14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su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82960" y="1484280"/>
            <a:ext cx="18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pen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21520" y="5948280"/>
            <a:ext cx="44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uspend2.net/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0EE2-388B-469B-8B1D-ABC4DD77AAD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ed Suspend2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to A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d on Suspend2 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 incorporated in next releas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5800" y="3735360"/>
            <a:ext cx="803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lists.suspend2.net/lurker/message/20051114.094040.11261d0e.en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410E-BF49-486E-8CED-0BC93025A0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vironm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38098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AP Starter Kit (OSK 59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 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t 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-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dest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sh 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osk.jpg"/>
          <p:cNvPicPr/>
          <p:nvPr/>
        </p:nvPicPr>
        <p:blipFill>
          <a:blip r:embed="rId2"/>
          <a:stretch/>
        </p:blipFill>
        <p:spPr>
          <a:xfrm>
            <a:off x="5651640" y="333360"/>
            <a:ext cx="3095640" cy="2325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003640" y="2792520"/>
            <a:ext cx="3961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rdware Featu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M9 core operating at 192 Mh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P core operating at 192 Mh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V320AIC23 Stereo Code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Mbyte DDR SD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Mbyte Flash 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-232 Serial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MBPS Ethernet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B Host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ct flash conn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board IEEE 1149.1 J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6D90-2BEC-4C92-83B5-B0AD6591BF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spend2 Evalua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ux 2.6.14 + Suspend2-2.2-rc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bernate from ash login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printk time of kernel to measur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line is the timimg when linux starts up from ub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ake menuconf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 hacking ---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[ ] Show timing information on print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tree.celinuxforum.org/CelfPubWiki/Printk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3465-F416-4A48-98EA-090298B340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spend2 Resul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Start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618 [se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d2 (lzf 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.492 [se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.371 M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7.450 MB (compression rate 39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d2 (lzf of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.99 [se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74920" y="5805360"/>
            <a:ext cx="47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pend2 process start at: 4.402 [sec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54280" y="5229360"/>
            <a:ext cx="46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 of startup time: 20%,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50 [sec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8A7B-6C2E-4914-B920-A0BA4FA5E0A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 Evalua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ux 2.6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printk time of kernel to measur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 starts when linux starts up from ub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ake menuconf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 hacking ---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[ ] Show timing information on print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tree.celinuxforum.org/CelfPubWiki/Printk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2611-0171-4614-911D-AB6F4CE3A0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4T22:14:41Z</dcterms:created>
  <dc:creator>Masato Abe</dc:creator>
  <dc:description/>
  <dc:language>en-US</dc:language>
  <cp:lastModifiedBy>Takao Ikoma</cp:lastModifiedBy>
  <dcterms:modified xsi:type="dcterms:W3CDTF">2006-02-17T06:51:21Z</dcterms:modified>
  <cp:revision>3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3331358</vt:r8>
  </property>
  <property fmtid="{D5CDD505-2E9C-101B-9397-08002B2CF9AE}" pid="3" name="_AuthorEmail">
    <vt:lpwstr>Satoru.Ueda@jp.sony.com</vt:lpwstr>
  </property>
  <property fmtid="{D5CDD505-2E9C-101B-9397-08002B2CF9AE}" pid="4" name="_AuthorEmailDisplayName">
    <vt:lpwstr>Satoru Ueda</vt:lpwstr>
  </property>
  <property fmtid="{D5CDD505-2E9C-101B-9397-08002B2CF9AE}" pid="5" name="_EmailSubject">
    <vt:lpwstr>Tokyo TechnoJam</vt:lpwstr>
  </property>
  <property fmtid="{D5CDD505-2E9C-101B-9397-08002B2CF9AE}" pid="6" name="_ReviewingToolsShownOnce">
    <vt:lpwstr/>
  </property>
</Properties>
</file>